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40B-1578-41A9-8211-83F2AAAE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911-B214-4338-88E2-3569C20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909-F10A-4552-A2D8-4A7DF3E5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7A4-8BF2-4566-B1A1-C345CCF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5EC-2835-40FB-9A21-BE5EB912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675D-BAA3-4899-958A-CDB5982C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255-5A7A-4DD6-BD07-0DF00C4B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88A-0022-4F95-AEFA-7890093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7A42-4386-483D-8723-73681C9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8ED-250C-4874-8672-783AED6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76C6-2F6C-456A-AF79-C7F231F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CAD-0B5C-4D43-88D1-0695DBB3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DE3-66AF-44C4-86D5-EEF30D4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F16A-25AC-4A7F-B9E4-4D1736D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460A-6779-4DC6-9A79-A8BA4CF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6096-8B93-40A8-8BF3-FC4D30AE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5398-9797-4195-A457-876362F0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C82AB-DC95-4FCA-ABF5-BBC8618A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FAD90-DC39-4B62-8F6D-CE2A6EA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9737B-BBD9-4F9D-8459-AAAB5AA5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DA385-0250-44BC-9883-CD4DC3A1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F7A5D-04DC-49F0-A985-49B1BD76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8E2-2675-4B62-BEC7-516B9D1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FCEFA-E898-4227-87E8-6FE7FEC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E3060-E5C3-4B4C-B3CD-AA01E47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424A1-3623-4866-B5CE-32AFDB7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FEF25-2F7D-476E-BBD2-02FE902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06560-B44E-4FDB-ACEA-1BC184E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DA77E-D453-48D5-92A5-7EED1D1F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D5179-915B-4C05-8CD7-71CFC856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D438-DA05-40D8-A98D-0A0214D2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637B-74A8-4EF3-828B-9952033B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3592-82DD-4622-9F20-F03F2289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587-B3BA-498B-A77A-096BB88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D493-803C-4E51-9993-99642B9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D748-6A22-4FD7-8DE7-11A75FC5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2F28-41DB-433B-B2E6-3C32E20E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2906-0DC1-453A-8458-74E4AC4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CAE3-D6FF-460D-819B-2F9FE8C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5D07-EDCD-4850-8165-B1802B3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BD0B-A1CA-4CDC-BB45-9DD0357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4E2F-E1EB-4A75-B05A-46DBA18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E1BA-3C3A-4B69-B86C-24E2AC6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3A29C-AB6B-4D67-8A6C-94F4E220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77D-290F-4B0B-A3AD-E6B7444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CEC91-BFB8-440A-859D-B1F9705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4DDB2-E00F-482D-A377-9B92BF9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C1BB4-E023-49C5-A1E9-04A9B33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E59D6-600B-4BF4-8CA6-40F394A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859B6-3155-4766-8A20-45C7B698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64F38-1385-45E4-8AE5-B4354C3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7B542-5919-41A7-91ED-9D09222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DE720-5334-4E0A-8E07-796353A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C0CA8-2E37-42B5-A03E-0C540646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6180B-A436-4B9D-A8CE-853AED68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1E5-F28D-492E-B2AA-E733F5A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22A84-10BF-4122-B3C4-62E1E2C6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BA783-DE06-4BFD-B64F-561DC88E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874CE-BDD8-4861-8C44-A263E15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ACE15-F27C-42BA-B374-FDFFF71C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7339C-4194-4916-9558-B3EA6AE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27151-F4A5-449A-9FA2-430B43E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65B7E-46BA-460B-8842-E7E80A6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3A6FF-871A-4C8D-BF68-E259CC8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A647B-2D03-4AB6-BC11-8972763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16283-B2CD-415A-A3A8-DF7F7C3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71F-1376-4F3C-BA33-DF099D0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17F89-95E5-4154-A115-C49B133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46441-D270-4BA2-BE94-8680DFA9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C2B62-6DA7-474D-A16C-74964647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44AA3-9B53-4452-9D11-0270556C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EAE80-0AE5-4ADB-BD6F-55D42D68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5B8DE-6EF1-4350-A3B8-212DBB05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0B59D-51B3-4FD4-BDFC-22EC06B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694CE-CAE7-4C71-BECB-641C501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981C7-DDD8-430E-AF7C-8F34250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3483A-2545-416A-8C69-D4B78A8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062-86D5-45A3-8A1C-40B2323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E23B7-D654-4297-A632-E0680658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BBB02-B1F2-4A2E-8ED2-8171C87C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63350-EBDB-419E-8290-6A2D787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2DEB5-2025-46B4-9A26-D643A23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7B4E0-D4FE-4ED0-A5A2-ABF15730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088-98B1-41B0-896E-3EAFF68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518-209B-428A-ADD7-198E884D10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39D3-4E8A-4B46-9DEF-C7EAC4A183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270-1F19-4CAE-8CAD-99F12C76BA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D48-A180-4BA3-8773-0872CE3580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92B-7CF2-4647-95EC-1E86C0F0CE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3548-3245-494F-B113-8520141C94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64E6-656C-48F7-A5B0-F5EDFEAE63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entury Schoolbook"/>
              </a:rPr>
              <a:t>ROBOT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Century Schoolbook"/>
              </a:rPr>
              <a:t>7</a:t>
            </a:r>
            <a:r>
              <a:rPr b="1" lang="en-US" sz="1800" spc="-1" strike="noStrike" baseline="30000">
                <a:solidFill>
                  <a:srgbClr val="04617b"/>
                </a:solidFill>
                <a:latin typeface="Century Schoolbook"/>
              </a:rPr>
              <a:t>th</a:t>
            </a:r>
            <a:r>
              <a:rPr b="1" lang="en-US" sz="1800" spc="-1" strike="noStrike">
                <a:solidFill>
                  <a:srgbClr val="04617b"/>
                </a:solidFill>
                <a:latin typeface="Century Schoolbook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1433520"/>
            <a:ext cx="6248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523960" y="1612800"/>
            <a:ext cx="33339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200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570040" y="1600200"/>
            <a:ext cx="3241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700360" y="1655640"/>
            <a:ext cx="2981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232000" y="1600200"/>
            <a:ext cx="39178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6705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5" name="ShockwaveFlash1"/>
          <p:cNvGraphicFramePr/>
          <p:nvPr/>
        </p:nvGraphicFramePr>
        <p:xfrm>
          <a:off x="380880" y="380880"/>
          <a:ext cx="77709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777096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057400" y="190332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286000" y="213192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600200" y="144612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62120" y="1601640"/>
            <a:ext cx="6858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352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362320" y="1440000"/>
            <a:ext cx="365760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295280" y="1681200"/>
            <a:ext cx="5791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54280" y="1600200"/>
            <a:ext cx="4873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34:48Z</dcterms:created>
  <dc:creator>Tina</dc:creator>
  <dc:description/>
  <dc:language>en-US</dc:language>
  <cp:lastModifiedBy>Tina</cp:lastModifiedBy>
  <dcterms:modified xsi:type="dcterms:W3CDTF">2009-09-23T01:58:29Z</dcterms:modified>
  <cp:revision>9</cp:revision>
  <dc:subject/>
  <dc:title>Robots</dc:title>
</cp:coreProperties>
</file>